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860-9097-4497-B638-C62A9921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76A-8562-4872-8B9B-BE36AA2C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B9B-AAA8-4974-B8C7-718EB908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36C-C7A7-4B8D-8C08-61DF0DB3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D3F68-A985-4BD6-A680-FFBAFB20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E5CC8-1828-406D-8FAE-D598ACAE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D8C62-3F66-4D8D-83F4-898D04F6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1FC9E-C003-49B4-A50A-4E28CD2B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83C8C-3856-490E-AFEF-7739A43F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A0EA1-9779-4360-BE9A-2DFB4EBB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AD7FB-D73D-4A4B-B67F-3EFBF5B2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E44-05C9-440A-9063-2BB9D67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E91CB-03C2-4B27-8EF4-57973BDB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B4F35-9DE9-4D94-8C4B-7A0EDA33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67EBC-FD44-4FBE-988C-49F04C34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24F31-B05A-4EB7-BFD6-DACAAC83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9053D-0993-4CE4-916D-15F28E20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D4E-AF11-4478-B67D-8F8695E8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621-BAAC-43DF-AD64-0605294D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91F-DEF7-46C6-81BA-83CCC2C5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9A4-CC25-4847-A5C5-EDBED8AF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2A9-3F25-409A-9FCA-0DE62C3F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3BD-2E2B-4C29-9F33-4B72DA95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2B36-13F9-4642-9221-F7AF3FC2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F0D9-BE3E-40C7-93EE-718A37D068AE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4121-5C54-4062-A178-13F84E6C615F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o/imgres?imgurl=http://sfinx667.files.wordpress.com/2008/07/biblia_romana_vers_17_rugaciune.jpg&amp;imgrefurl=http://sfinx777.wordpress.com/2008/07/04/imaginea-trinitara-a-sortii-mitul-ursitoarelor-i/&amp;h=360&amp;w=300&amp;sz=11&amp;tbnid=aQlX6CYDHbIEUM:&amp;tbnh=121&amp;tbnw=101&amp;prev=/images%3Fq%3Dimagini%2Bbiblie&amp;hl=ro&amp;usg=__90a8NklG7HZLlVe7ABDwDlc6Ltc=&amp;ei=nWZkSpbYKoTInAOdwLD4Dw&amp;sa=X&amp;oi=image_result&amp;resnum=4&amp;ct=image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De ce avem nevoie de Dumnezeu </a:t>
            </a:r>
            <a:r>
              <a:rPr b="0" lang="ro-RO" sz="51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41400" y="4049640"/>
            <a:ext cx="7261200" cy="14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A existat un moment in viata ta in care ai simtit prezenta lui Dumnezeu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are ar fi acesta?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Tahoma"/>
              </a:rPr>
              <a:t>Ce </a:t>
            </a:r>
            <a:r>
              <a:rPr b="0" lang="ro-RO" sz="5100" spc="-1" strike="noStrike">
                <a:solidFill>
                  <a:srgbClr val="ffffff"/>
                </a:solidFill>
                <a:latin typeface="Tahoma"/>
              </a:rPr>
              <a:t>ştim acum despre </a:t>
            </a:r>
            <a:r>
              <a:rPr b="0" lang="en-US" sz="5100" spc="-1" strike="noStrike">
                <a:solidFill>
                  <a:srgbClr val="ffffff"/>
                </a:solidFill>
                <a:latin typeface="Tahoma"/>
              </a:rPr>
              <a:t>Dumnezeu?</a:t>
            </a:r>
            <a:endParaRPr b="0" lang="en-US" sz="5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52480" y="2971800"/>
            <a:ext cx="6782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Enumeraţi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zilele creatiei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.............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umera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ţi 3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nuni cunoscute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crieti tainele cunoscut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http://sfinx777.wordpress.com/2008/07/04/imaginea-trinitara-a-sortii-mitul-ursitoarelor-i/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2209680"/>
            <a:ext cx="31240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Ce il face pe om sa creada intr-o divinitat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(dati trei exemple)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8896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…………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352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5:53:15Z</dcterms:created>
  <dc:creator>CCD Brasov</dc:creator>
  <dc:description/>
  <dc:language>en-US</dc:language>
  <cp:lastModifiedBy>User</cp:lastModifiedBy>
  <dcterms:modified xsi:type="dcterms:W3CDTF">2009-07-21T18:48:27Z</dcterms:modified>
  <cp:revision>16</cp:revision>
  <dc:subject/>
  <dc:title>Slide 1</dc:title>
</cp:coreProperties>
</file>